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782-70AA-45AC-A8F7-E26BD2AC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817-F2BC-4F37-8502-2F18CA73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607-9ACF-40A4-A9C4-1C5FBAC2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147-6666-43EE-A868-14CFFDF6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F04-DE8F-46EB-A42C-7801E5B9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3AB-FADC-443B-92AC-744D6C62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8E7-8AB6-4919-8059-C4F7AE27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2AB-82EB-4922-8C0A-3F6F1ED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370-8166-4570-9FF1-7DFE5935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34F-FD0D-48F4-81FA-542A1107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E79-8689-4DB0-AE0C-23A03E2C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E45-D21F-4940-B3BC-F5F5BA7D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D877-07B3-4D5F-A89B-E40977EA7418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69960" y="487440"/>
            <a:ext cx="7804080" cy="1805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1857240" y="2500200"/>
            <a:ext cx="55724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ok at the following painting. Do you like i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en was it taken? Name 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alibri"/>
              </a:rPr>
              <a:t>season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 It’s the season when you can find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ater melon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t the greengrocer’s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which room of the house was the picture tak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mplete these sentenc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.You need a _______ to cut the water mel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. You need a _______ to eat the water mel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. You need a _______ to drink the orange jui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l the words you need ar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alibri"/>
              </a:rPr>
              <a:t>on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the t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e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1280" cy="15429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3" descr=""/>
          <p:cNvPicPr/>
          <p:nvPr/>
        </p:nvPicPr>
        <p:blipFill>
          <a:blip r:embed="rId2"/>
          <a:stretch/>
        </p:blipFill>
        <p:spPr>
          <a:xfrm>
            <a:off x="1214280" y="2214720"/>
            <a:ext cx="6429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the man in the painting do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the woman do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colour is mostly used in the pain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t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shap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of the oran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strange about t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siz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of the oranges and the banan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« Λιομάζωμα»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 (Olive harvest)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 – Θεόφιλος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(Theofilos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61437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38120" y="96840"/>
            <a:ext cx="8364600" cy="1378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400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people can you see in the pain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are they doing? Are they outdoors or indoo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are the workers putting the oliv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are the women wearing on their hea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ame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on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when we collect olives in Greece. Wha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eas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ant to make  Greek salad. You need ______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______  _____                , ________                 and ______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7072200" y="3894120"/>
            <a:ext cx="1071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2571840" y="4572000"/>
            <a:ext cx="847800" cy="85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5072040" y="4714920"/>
            <a:ext cx="71424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5"/>
          <a:stretch/>
        </p:blipFill>
        <p:spPr>
          <a:xfrm>
            <a:off x="7643880" y="4786200"/>
            <a:ext cx="124776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«Το μέγαν αρτοποιείον» (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he Grand Bakery)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 – Θεόφιλος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 (Theofilos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1428840" y="1928880"/>
            <a:ext cx="61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6840" y="1599840"/>
            <a:ext cx="8472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is a bakery of the past. Where is the baker baking the brea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people can you see in the background? What are they do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ok at the loaves of bread on the table. What is their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hap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? What is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hap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design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on the cloth on the ta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ok at the left side of the painting. The loaves of bread are placed  on __________ . They have perfec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ymmet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 you put on bread with your breakfa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____                     2. _______                     3. ______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643040" y="5214960"/>
            <a:ext cx="928800" cy="941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387680" y="5286240"/>
            <a:ext cx="1175040" cy="82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4"/>
          <a:stretch/>
        </p:blipFill>
        <p:spPr>
          <a:xfrm>
            <a:off x="7500960" y="5000760"/>
            <a:ext cx="7999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BRAINSTORM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Think of places where we can find or produce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t into groups of f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an “artistic” name for y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reate your own drawing which portray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foo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 find a title for it. Then write a short caption that describes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C:\Users\marw\AppData\Local\Microsoft\Windows\Temporary Internet Files\Content.IE5\693CFB1Y\MP900401195[1].jpg"/>
          <p:cNvPicPr/>
          <p:nvPr/>
        </p:nvPicPr>
        <p:blipFill>
          <a:blip r:embed="rId2"/>
          <a:stretch/>
        </p:blipFill>
        <p:spPr>
          <a:xfrm>
            <a:off x="6429240" y="2857680"/>
            <a:ext cx="18748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0:21:44Z</dcterms:created>
  <dc:creator>marw</dc:creator>
  <dc:description/>
  <dc:language>en-US</dc:language>
  <cp:lastModifiedBy>Natassa</cp:lastModifiedBy>
  <dcterms:modified xsi:type="dcterms:W3CDTF">2012-05-14T19:40:30Z</dcterms:modified>
  <cp:revision>18</cp:revision>
  <dc:subject/>
  <dc:title>Slide 1</dc:title>
</cp:coreProperties>
</file>